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84D-1C87-4F69-A60C-763074F1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E4E-5EFA-4E1B-A32F-FF256AD6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990-0471-471D-A895-D36190B2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EF0-ADC2-4F60-91E3-1A1A4C1A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853-93F8-42D9-B572-E8C5F624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1B3-4FC0-47B3-8F36-A4D138A0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E8A-F591-440B-8AD6-1B8F5AF1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3A4-01C4-4BE4-B151-A3DBC002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AAB-63EE-45BB-AB39-DAC4A775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48F-07BE-43B3-8A11-D9DE9F23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FBA-C625-4F0A-B041-343EE6F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145-DEDA-4668-85CD-1BA683BC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BC78-E8F8-4DEC-8699-1B57121BC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e4uoWQeM4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F9nA4Fg3Rw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guide 4-1 da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1371600"/>
            <a:ext cx="8458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ion with a negative charge is called an anion.  It has one or more extra electrons, thus negative char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nions are named by taking part of the element name plus the suffix -id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.  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nion of chlorine) = Chlo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04920" y="3657600"/>
            <a:ext cx="8381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ion with a positive charge is called a cation,.  It has lost 1 or more electrons, thus a positive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naming is easy, because its simply the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.  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ation of sodium) = Sod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60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28600" y="68580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ation of Ionic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cations and anions have opposite charges, therefore they are attracted to each o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04920" y="19051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When they get close enough, a chemical bond (force that holds atoms/ions together) form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ionic bonds form when electrons transfer from one to anoth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tals bond with non metals ionic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57200" y="358128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onization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mount of energy used to remove an elec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electrons move to a higher energy level when atom absorbs energy.  So when enough energy is absorbed, up a level can an electron 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57200" y="60948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the amount of energy required varies among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onization energ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lly decreases as you move down a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ionization energy generally increases as you move across a perio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57200" y="281952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compounds that contain ionic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we can show ionic bonding by using chemical form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chemical formulas tell us what and how many of each element are involved in the bond proc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5257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 sodium chloride Na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7200" y="83808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sometimes, one element cannot bond with another element on its own.  It may need to bring a similar element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 Mg  +  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white board (pg 1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1:15:50Z</dcterms:created>
  <dc:creator>jpak</dc:creator>
  <dc:description/>
  <dc:language>en-US</dc:language>
  <cp:lastModifiedBy>Customer</cp:lastModifiedBy>
  <dcterms:modified xsi:type="dcterms:W3CDTF">2009-10-26T01:03:42Z</dcterms:modified>
  <cp:revision>16</cp:revision>
  <dc:subject/>
  <dc:title>Noteguide 4-1 day 2</dc:title>
</cp:coreProperties>
</file>